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25F6-A566-4E21-8C3C-99ABDFA93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1797-3FAB-4D4F-949B-CC49EA990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B2BE-CA28-4CE5-A299-17BA3D214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80B7-460D-473B-A0FA-899DA3F4B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7F47-CC37-4078-8166-3EE8C224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188F-5A04-4E71-A882-962A989F4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62CC-E4E1-4E17-88A4-F1B5D257C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DCA5-DC7F-4A6A-90A1-0C7E5024A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9A97-E3BD-409A-8646-F85630764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E5C1-9C99-4441-B53D-2C2D4085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B3E5-D54C-4E9A-B0E6-69D7448B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0CB9-58D1-475A-BD88-7318E259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A8D9F-5C54-4976-A6F6-26242D6287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4440" y="2438280"/>
            <a:ext cx="783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400" spc="-1" strike="noStrike">
                <a:solidFill>
                  <a:srgbClr val="000000"/>
                </a:solidFill>
                <a:latin typeface="Comic Sans MS"/>
              </a:rPr>
              <a:t>Vademecum dello spor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30800" y="4114800"/>
            <a:ext cx="247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9 regole basil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10040" y="1905120"/>
            <a:ext cx="6395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Comic Sans MS"/>
              </a:rPr>
              <a:t>Regola Nr.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Comic Sans MS"/>
              </a:rPr>
              <a:t>Dimostra affetto alla gen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Comic Sans MS"/>
              </a:rPr>
              <a:t>che ti sta attorno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chwule%20Formel%201" descr=""/>
          <p:cNvPicPr/>
          <p:nvPr/>
        </p:nvPicPr>
        <p:blipFill>
          <a:blip r:embed="rId1"/>
          <a:stretch/>
        </p:blipFill>
        <p:spPr>
          <a:xfrm>
            <a:off x="685800" y="839880"/>
            <a:ext cx="7924680" cy="525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725840" y="1905120"/>
            <a:ext cx="551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1" lang="de-DE" sz="3600" spc="-1" strike="noStrike">
                <a:solidFill>
                  <a:srgbClr val="000000"/>
                </a:solidFill>
                <a:latin typeface="Comic Sans MS"/>
              </a:rPr>
              <a:t>ma senza esagerare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geil" descr=""/>
          <p:cNvPicPr/>
          <p:nvPr/>
        </p:nvPicPr>
        <p:blipFill>
          <a:blip r:embed="rId1"/>
          <a:stretch/>
        </p:blipFill>
        <p:spPr>
          <a:xfrm>
            <a:off x="1295280" y="762120"/>
            <a:ext cx="6553440" cy="509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jaaaa" descr=""/>
          <p:cNvPicPr/>
          <p:nvPr/>
        </p:nvPicPr>
        <p:blipFill>
          <a:blip r:embed="rId1"/>
          <a:stretch/>
        </p:blipFill>
        <p:spPr>
          <a:xfrm>
            <a:off x="2479680" y="457200"/>
            <a:ext cx="4132080" cy="601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1539" descr=""/>
          <p:cNvPicPr/>
          <p:nvPr/>
        </p:nvPicPr>
        <p:blipFill>
          <a:blip r:embed="rId1"/>
          <a:stretch/>
        </p:blipFill>
        <p:spPr>
          <a:xfrm>
            <a:off x="2390760" y="228600"/>
            <a:ext cx="4152960" cy="63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69800" y="1905120"/>
            <a:ext cx="6261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Comic Sans MS"/>
              </a:rPr>
              <a:t>Regola Nr.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Comic Sans MS"/>
              </a:rPr>
              <a:t>Non sorprenderti se scop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Comic Sans MS"/>
              </a:rPr>
              <a:t>dei muscoli che neanc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Comic Sans MS"/>
              </a:rPr>
              <a:t>sapevi di aver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was'ndas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6553080" cy="52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127240" y="1905120"/>
            <a:ext cx="4745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Comic Sans MS"/>
              </a:rPr>
              <a:t>Regola Nr.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Comic Sans MS"/>
              </a:rPr>
              <a:t>Non bere tropp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Comic Sans MS"/>
              </a:rPr>
              <a:t>prima di uno sforzo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vorhernichtstrinken" descr=""/>
          <p:cNvPicPr/>
          <p:nvPr/>
        </p:nvPicPr>
        <p:blipFill>
          <a:blip r:embed="rId1"/>
          <a:stretch/>
        </p:blipFill>
        <p:spPr>
          <a:xfrm>
            <a:off x="1944720" y="380880"/>
            <a:ext cx="5254560" cy="609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98200" y="1905120"/>
            <a:ext cx="538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Comic Sans MS"/>
              </a:rPr>
              <a:t>Regola Nr.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Comic Sans MS"/>
              </a:rPr>
              <a:t>Indossa abiti sportivi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131840" y="1905120"/>
            <a:ext cx="6759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Comic Sans MS"/>
              </a:rPr>
              <a:t>Regola Nr.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Comic Sans MS"/>
              </a:rPr>
              <a:t>Limitati all‘esercizio sportiv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Comic Sans MS"/>
              </a:rPr>
              <a:t>della tua disciplina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1335" descr=""/>
          <p:cNvPicPr/>
          <p:nvPr/>
        </p:nvPicPr>
        <p:blipFill>
          <a:blip r:embed="rId1"/>
          <a:stretch/>
        </p:blipFill>
        <p:spPr>
          <a:xfrm>
            <a:off x="1295280" y="514440"/>
            <a:ext cx="6858000" cy="569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048320" y="1905120"/>
            <a:ext cx="6933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Comic Sans MS"/>
              </a:rPr>
              <a:t>Regola Nr.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Comic Sans MS"/>
              </a:rPr>
              <a:t>Utilizza gli attrezzi sportiv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Comic Sans MS"/>
              </a:rPr>
              <a:t>solo secondo la loro funzion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1190" descr=""/>
          <p:cNvPicPr/>
          <p:nvPr/>
        </p:nvPicPr>
        <p:blipFill>
          <a:blip r:embed="rId1"/>
          <a:stretch/>
        </p:blipFill>
        <p:spPr>
          <a:xfrm>
            <a:off x="2438280" y="304920"/>
            <a:ext cx="4159440" cy="60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731960" y="1905120"/>
            <a:ext cx="5546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Comic Sans MS"/>
              </a:rPr>
              <a:t>Regola Nr.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1" lang="de-DE" sz="3600" spc="-1" strike="noStrike">
                <a:solidFill>
                  <a:srgbClr val="000000"/>
                </a:solidFill>
                <a:latin typeface="Comic Sans MS"/>
              </a:rPr>
              <a:t>e fai tanto sport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Comic Sans MS"/>
              </a:rPr>
              <a:t>Lo sport tiene in forma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Comic Sans MS"/>
              </a:rPr>
              <a:t>Altrimenti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0624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467480" cy="556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befree" descr=""/>
          <p:cNvPicPr/>
          <p:nvPr/>
        </p:nvPicPr>
        <p:blipFill>
          <a:blip r:embed="rId1"/>
          <a:stretch/>
        </p:blipFill>
        <p:spPr>
          <a:xfrm>
            <a:off x="2251080" y="838080"/>
            <a:ext cx="477828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661840" y="2209680"/>
            <a:ext cx="372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1" lang="de-DE" sz="3600" spc="-1" strike="noStrike">
                <a:solidFill>
                  <a:srgbClr val="000000"/>
                </a:solidFill>
                <a:latin typeface="Comic Sans MS"/>
              </a:rPr>
              <a:t>anche in volo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0718" descr=""/>
          <p:cNvPicPr/>
          <p:nvPr/>
        </p:nvPicPr>
        <p:blipFill>
          <a:blip r:embed="rId1"/>
          <a:stretch/>
        </p:blipFill>
        <p:spPr>
          <a:xfrm>
            <a:off x="990720" y="415800"/>
            <a:ext cx="7543800" cy="596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301120" y="1905120"/>
            <a:ext cx="435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Comic Sans MS"/>
              </a:rPr>
              <a:t>Regola Nr.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Comic Sans MS"/>
              </a:rPr>
              <a:t>Indossa abiti del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Comic Sans MS"/>
              </a:rPr>
              <a:t>misura corretta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rikot%20zu%20groß" descr=""/>
          <p:cNvPicPr/>
          <p:nvPr/>
        </p:nvPicPr>
        <p:blipFill>
          <a:blip r:embed="rId1"/>
          <a:stretch/>
        </p:blipFill>
        <p:spPr>
          <a:xfrm>
            <a:off x="3043080" y="571680"/>
            <a:ext cx="305784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25160" y="1905120"/>
            <a:ext cx="4521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Comic Sans MS"/>
              </a:rPr>
              <a:t>Regola Nr.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Comic Sans MS"/>
              </a:rPr>
              <a:t>Controlla che tut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Comic Sans MS"/>
              </a:rPr>
              <a:t>sia ben protetto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ups" descr=""/>
          <p:cNvPicPr/>
          <p:nvPr/>
        </p:nvPicPr>
        <p:blipFill>
          <a:blip r:embed="rId1"/>
          <a:stretch/>
        </p:blipFill>
        <p:spPr>
          <a:xfrm>
            <a:off x="1676520" y="741240"/>
            <a:ext cx="5715000" cy="5303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6T08:36:43Z</dcterms:created>
  <dc:creator>PricewaterhouseCoopers</dc:creator>
  <dc:description/>
  <dc:language>en-US</dc:language>
  <cp:lastModifiedBy>Schweizer Börse</cp:lastModifiedBy>
  <dcterms:modified xsi:type="dcterms:W3CDTF">2001-08-27T10:08:46Z</dcterms:modified>
  <cp:revision>6</cp:revision>
  <dc:subject/>
  <dc:title>Kein Folientitel</dc:title>
</cp:coreProperties>
</file>