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617-EEC6-48CC-B590-5E057634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D33-46C6-4D19-ABD3-138EDDC4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465-F15E-4016-A34D-CF38D460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688-9175-4557-BBF4-169FB5E3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7B2-5DDA-494A-814D-5DB80CA4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CA9-1145-4EF8-97EB-96843C84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961B-EFA6-4F77-91DF-78FE17D9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973B-CF44-4AF6-8E62-D16AD2CC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CDE-F263-4A90-AF05-485A632A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7C9-2775-46A2-9689-8D81D6EE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C344-0152-4AA3-A27C-530AD242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5F3-6E50-4EA5-BA9B-7F3C30FA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9A7D-C9BB-4B69-98AB-B31EC9C14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iveup.it/" TargetMode="External"/><Relationship Id="rId3" Type="http://schemas.openxmlformats.org/officeDocument/2006/relationships/hyperlink" Target="http://www.giveup.it/" TargetMode="External"/><Relationship Id="rId4" Type="http://schemas.openxmlformats.org/officeDocument/2006/relationships/hyperlink" Target="http://www.giveup.it/" TargetMode="External"/><Relationship Id="rId5" Type="http://schemas.openxmlformats.org/officeDocument/2006/relationships/hyperlink" Target="http://www.giveup.it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8000"/>
                </a:solidFill>
                <a:latin typeface="Times New Roman"/>
              </a:rPr>
              <a:t>IN CERTE GIORNATE SEMBRA CHE LA VITA NON ABBIA UNO SCOPO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I ALZI DAL LETTO E NON TROVI MEZZA RAGIONE PER NON TORNARTENE SOTTO LE COPER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8000"/>
                </a:solidFill>
                <a:latin typeface="Times New Roman"/>
              </a:rPr>
              <a:t>IL CIELO GRIGIO SEMBRA VOLERTI SOFFOCARE… TUTTO TI APPARE VUOTO, BUIO, SENZA SENSO…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A POI QUASI SENZA ACCORGERTENE, TROVI SULLA STRADA DELLA VITA IL SEGNO CHE ASPETTAVI… FORSE NON E’ PROPRIO VERO, FORSE LA VITA HA UNO SCOPO… FORSE VIVO PER QUALCOSA… FORSE…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ho-trovato-l'ed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I PERDERE LA SPERANZA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6502320"/>
            <a:ext cx="4267080" cy="432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33cc"/>
                </a:solidFill>
                <a:uFillTx/>
                <a:latin typeface="HMan"/>
                <a:hlinkClick r:id="rId2"/>
              </a:rPr>
              <a:t>www.</a:t>
            </a:r>
            <a:r>
              <a:rPr b="0" lang="it-IT" sz="3200" spc="-1" strike="noStrike" u="sng">
                <a:solidFill>
                  <a:srgbClr val="0033cc"/>
                </a:solidFill>
                <a:uFillTx/>
                <a:latin typeface="HMan"/>
                <a:hlinkClick r:id="rId3"/>
              </a:rPr>
              <a:t>giveup</a:t>
            </a:r>
            <a:r>
              <a:rPr b="0" lang="it-IT" sz="3200" spc="-1" strike="noStrike" u="sng">
                <a:solidFill>
                  <a:srgbClr val="0033cc"/>
                </a:solidFill>
                <a:uFillTx/>
                <a:latin typeface="HMan"/>
                <a:hlinkClick r:id="rId4"/>
              </a:rPr>
              <a:t>.</a:t>
            </a:r>
            <a:r>
              <a:rPr b="0" lang="it-IT" sz="3200" spc="-1" strike="noStrike" u="sng">
                <a:solidFill>
                  <a:srgbClr val="0033cc"/>
                </a:solidFill>
                <a:uFillTx/>
                <a:latin typeface="HMan"/>
                <a:hlinkClick r:id="rId5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9:56:25Z</dcterms:created>
  <dc:creator> </dc:creator>
  <dc:description/>
  <dc:language>en-US</dc:language>
  <cp:lastModifiedBy>zanattf</cp:lastModifiedBy>
  <dcterms:modified xsi:type="dcterms:W3CDTF">2004-02-17T10:16:57Z</dcterms:modified>
  <cp:revision>2</cp:revision>
  <dc:subject/>
  <dc:title>IN CERTE GIORNATE SEMBRA CHE LA VITA NON ABBIA UNO SCOPO</dc:title>
</cp:coreProperties>
</file>