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321-4846-4D61-A752-54DD71B1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993-1509-47E6-8368-D21EA639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ACB-8A4B-42E9-AC25-5D91ADEF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0DD-AFE7-4E1B-85B6-40989E1E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545E-1474-437B-BCB5-495399F0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8929-DCD2-487F-8E8E-1D86898B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1221-E195-4710-AE60-BDBF4ED1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4050-2549-4662-9443-2BD89DDE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B3E4-189F-4CC0-82B4-B16213A0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A2C5-E9BB-4E52-AD9F-DE322315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43A5-9D61-40E6-83AA-F0EF79CE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1C3-FCB0-4EDF-991B-D73BD741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E5B7-BD95-4C43-8596-A8F0301F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8D5C-3E69-4FE5-B55A-A9E592C6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F754-9C9D-4FAF-AB72-267EDE28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5A80-7FE1-45B7-8867-B6D70A1C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BC0E-2D68-43F1-90A9-D1BEBF7E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CB0-3F36-4A75-BB5C-59F254A5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F0E-89DB-44D6-8C0F-D8A1FDEA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FDE-1ED2-4A51-B74D-EC0DA0DE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0D4-ED8D-4CB4-9711-E3BE48C2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094-89BD-4F77-A283-B9A6AFFA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F2A-4A3A-4CCF-97D2-E06BADB5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6A3-0583-40E1-AA2E-A86A13CA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9807-6CE3-4849-840A-02FD52032A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B6B9-9C13-4356-90E5-F903C8A695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907920"/>
            <a:ext cx="77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Le regole degli Uomi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’ risaputo che l’universo femminile ha regole ferree ed inappellabili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uesto manifesto è un atto di ribellione di noi Uomin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d una guida per le nostre don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Le nostre Regole sono enumerate secondo il proprio livello di priori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907920"/>
            <a:ext cx="777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al di testa che dura da 17 mesi è un problem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tevi vedere da un medic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lunque cosa abbiamo detto 6 mesi fa non è utilizzabile in una discussi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iù precisament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il valore di qualunque affermazione scade dopo 7 giorn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907920"/>
            <a:ext cx="777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 pensate di essere grasse, probabilmente lo sie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n chiedetecel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907920"/>
            <a:ext cx="77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 qualcosa che abbiamo detto può essere interpretata in due modi e uno dei due vi fa arrabbiare o vi rende tristi,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intendevamo l'al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tete chiederci di "fare qualcosa" o dirci "come volete che sia fatta". Non tutte e due le cose contemporaneamen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 poi sapete il modo migliore per farla,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otete benissimo farvela da so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90792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ndo possibil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rlate durante la pubblicità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907920"/>
            <a:ext cx="77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Cristoforo Colombo non aveva bisogno di qualcuno che gli indicasse la rot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Noi nemmeno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UTTI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li uomini vedono in 16 colori, come le impostazioni base di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"Pesca", per esempio, è un frutto, non un colore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che "melone" è un frut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"Malva" non abbiamo la più pallida idea di cosa 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90792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Se prude, grattatevi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Noi facciamo così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Se chiediamo cosa c'è che non va e voi rispondete "niente", ci comporteremo esattamente come se non ci fosse nulla che non v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Sappiamo perfettamente che state mentendo, ma così ci risparmiamo un sacco di fastid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907920"/>
            <a:ext cx="777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tette sono fatte per essere guardate ed è per questo che lo facciam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n c'è modo di modificare questo comportamen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907920"/>
            <a:ext cx="777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Se ponete una domanda a cui non volete una risposta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aspettatevi una risposta che non volevate senti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907920"/>
            <a:ext cx="77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ndo dobbiamo andare da qualche parte, tutto quello che indossate è bellissim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vver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907920"/>
            <a:ext cx="777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n domandateci mai a cosa stiamo pensando, a meno che non siate pronte a sostenere un dialogo su: sesso, sport, automobil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90792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I vestiti che avete sono più che sufficienti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907920"/>
            <a:ext cx="77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scarpe, invece, sono trop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4360" y="907920"/>
            <a:ext cx="77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i siamo perfettamente in forma: "tondo" è una for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907920"/>
            <a:ext cx="777528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zie per aver letto queste regole. Sì, lo so, stanotte dormirò sul divano. Ma a noi uomini non importa: è un po' come andare al campeggio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date questo messaggio a quanti più uomini potete per fargli fare quattro ris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date questo messaggio a quante più donne potete per...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ducar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907920"/>
            <a:ext cx="777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parate ad usare la tavoletta del cess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ete ragazze robuste: se è su, tiratela gi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noi serve su, a voi serve gi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i non ci lamentiamo mai quando la lasciate gi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907920"/>
            <a:ext cx="777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menica = spor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' un evento naturale come la luna piena o 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mbiamento delle ma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sciatelo così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90792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re la spesa NON si può considerare s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907920"/>
            <a:ext cx="77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iangere è un ricat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 volete qualcosa, chiedete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rchiamo di essere chia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"Sottili" sottintesi non funziona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"Forti" sottintesi non funziona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"Ovvi" sottintesi non funziona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mplicemente DITEL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90792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"Sì" e "No" sono risposte perfettamente adeguate a praticamente tutte le doman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ttoponeteci un problema solo se vi serve aiuto per risolver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viamo a quest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 la solidarietà ci sono le vostre amic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1:29:21Z</dcterms:created>
  <dc:creator>Michele Agostini</dc:creator>
  <dc:description/>
  <dc:language>en-US</dc:language>
  <cp:lastModifiedBy>jake.afc</cp:lastModifiedBy>
  <dcterms:modified xsi:type="dcterms:W3CDTF">2006-12-02T13:48:56Z</dcterms:modified>
  <cp:revision>1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47923522</vt:r8>
  </property>
  <property fmtid="{D5CDD505-2E9C-101B-9397-08002B2CF9AE}" pid="3" name="_AuthorEmail">
    <vt:lpwstr>f.dirosario@ferroviedellostato.it</vt:lpwstr>
  </property>
  <property fmtid="{D5CDD505-2E9C-101B-9397-08002B2CF9AE}" pid="4" name="_AuthorEmailDisplayName">
    <vt:lpwstr>Di Rosario Fabrizio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