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18A-C7B4-429E-9116-7200DDDB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007B-9AA9-406F-B62F-62E5CBA7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3CE-B9BB-4804-8BA9-A4533196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9197-77C5-425F-8B6A-92344477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58F-6C0F-46A7-BBD5-63004369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E40-983F-43FB-B0F2-D2C2D156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083C-B1B0-4E34-917B-9C1B2895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F97-7CEC-4AEB-A400-B5B77646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8B0E-F759-4994-95E4-75086D25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39B0-A213-468A-BB85-9F4F7F41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0506-3535-47EA-A8E1-E5CFF044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812-7937-4C47-A9A0-271B926D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DF43-A7EC-4964-993C-6AA41924E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85800"/>
            <a:ext cx="80010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ZELLET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lla classe di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IERI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a maestra invita un bambino alla volta  alla lavagna per disegnare un oggetto e farne la descri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alza il primo bambino, si reca alla lavagna, e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772400" y="6172200"/>
            <a:ext cx="1371600" cy="533160"/>
            <a:chOff x="7772400" y="6172200"/>
            <a:chExt cx="1371600" cy="533160"/>
          </a:xfrm>
        </p:grpSpPr>
        <p:sp>
          <p:nvSpPr>
            <p:cNvPr id="43" name=""/>
            <p:cNvSpPr/>
            <p:nvPr/>
          </p:nvSpPr>
          <p:spPr>
            <a:xfrm>
              <a:off x="7848720" y="67053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772400" y="6172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ntin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609480"/>
            <a:ext cx="5257800" cy="32004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762120"/>
            <a:ext cx="48006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34340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gna una riga orizzontale e dice: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esta è la ter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estra lo ringrazia e lo invita a tornare al p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 invita un altro bimbo, il qual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3200400"/>
            <a:ext cx="3886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772400" y="6172200"/>
            <a:ext cx="1371600" cy="533160"/>
            <a:chOff x="7772400" y="6172200"/>
            <a:chExt cx="1371600" cy="533160"/>
          </a:xfrm>
        </p:grpSpPr>
        <p:sp>
          <p:nvSpPr>
            <p:cNvPr id="50" name=""/>
            <p:cNvSpPr/>
            <p:nvPr/>
          </p:nvSpPr>
          <p:spPr>
            <a:xfrm>
              <a:off x="7848720" y="67053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772400" y="6172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ntin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28800" y="609480"/>
            <a:ext cx="5257800" cy="32004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762120"/>
            <a:ext cx="48006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343400"/>
            <a:ext cx="84582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gna un rettangolo sopra la riga e dice: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esta è una scatola appoggiata a ter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estra ringrazia anche lui invitandolo a tornare al p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 invita un altro bimbo, il qual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3200400"/>
            <a:ext cx="3886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2971800"/>
            <a:ext cx="609480" cy="2286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772400" y="6172200"/>
            <a:ext cx="1371600" cy="533160"/>
            <a:chOff x="7772400" y="6172200"/>
            <a:chExt cx="1371600" cy="533160"/>
          </a:xfrm>
        </p:grpSpPr>
        <p:sp>
          <p:nvSpPr>
            <p:cNvPr id="58" name=""/>
            <p:cNvSpPr/>
            <p:nvPr/>
          </p:nvSpPr>
          <p:spPr>
            <a:xfrm>
              <a:off x="7848720" y="67053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72400" y="6172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ntin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28800" y="609480"/>
            <a:ext cx="5257800" cy="32004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762120"/>
            <a:ext cx="48006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3200400"/>
            <a:ext cx="3886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2971800"/>
            <a:ext cx="609480" cy="2286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4038480"/>
            <a:ext cx="7848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iunge una figura e dice: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esta è una casetta che contiene la scatola appoggiata a ter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estra, sempre più entusiasta della fantasia dei bambini, lo ringrazia e lo invita a tornare al p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 invita un altro bimbo, il qual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772400" y="6172200"/>
            <a:ext cx="1371600" cy="533160"/>
            <a:chOff x="7772400" y="6172200"/>
            <a:chExt cx="1371600" cy="533160"/>
          </a:xfrm>
        </p:grpSpPr>
        <p:sp>
          <p:nvSpPr>
            <p:cNvPr id="66" name=""/>
            <p:cNvSpPr/>
            <p:nvPr/>
          </p:nvSpPr>
          <p:spPr>
            <a:xfrm>
              <a:off x="7848720" y="67053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72400" y="6172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ntin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581280" y="1828800"/>
            <a:ext cx="1676520" cy="1371600"/>
          </a:xfrm>
          <a:custGeom>
            <a:avLst/>
            <a:gdLst/>
            <a:ahLst/>
            <a:rect l="l" t="t" r="r" b="b"/>
            <a:pathLst>
              <a:path w="1056" h="768">
                <a:moveTo>
                  <a:pt x="0" y="768"/>
                </a:moveTo>
                <a:lnTo>
                  <a:pt x="0" y="336"/>
                </a:lnTo>
                <a:lnTo>
                  <a:pt x="480" y="0"/>
                </a:lnTo>
                <a:lnTo>
                  <a:pt x="1056" y="336"/>
                </a:lnTo>
                <a:lnTo>
                  <a:pt x="1056" y="768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28800" y="609480"/>
            <a:ext cx="5257800" cy="32004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762120"/>
            <a:ext cx="48006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3200400"/>
            <a:ext cx="3886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2971800"/>
            <a:ext cx="609480" cy="2286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05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ando il disegno dice: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esta è la neve che si scioglie sul tetto della casetta che contiene la scatola appoggiata a ter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estra, ormai sicura della buona riuscita dell’esercizio, lo ringrazia e lo invita a tornare al p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 invita un altro bimbo, il qual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772400" y="6172200"/>
            <a:ext cx="1371600" cy="533160"/>
            <a:chOff x="7772400" y="6172200"/>
            <a:chExt cx="1371600" cy="533160"/>
          </a:xfrm>
        </p:grpSpPr>
        <p:sp>
          <p:nvSpPr>
            <p:cNvPr id="75" name=""/>
            <p:cNvSpPr/>
            <p:nvPr/>
          </p:nvSpPr>
          <p:spPr>
            <a:xfrm>
              <a:off x="7848720" y="67053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72400" y="6172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ntin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581280" y="1828800"/>
            <a:ext cx="1676520" cy="1371240"/>
            <a:chOff x="3581280" y="1828800"/>
            <a:chExt cx="1676520" cy="1371240"/>
          </a:xfrm>
        </p:grpSpPr>
        <p:sp>
          <p:nvSpPr>
            <p:cNvPr id="78" name=""/>
            <p:cNvSpPr/>
            <p:nvPr/>
          </p:nvSpPr>
          <p:spPr>
            <a:xfrm>
              <a:off x="3581280" y="1828800"/>
              <a:ext cx="1676520" cy="1371240"/>
            </a:xfrm>
            <a:custGeom>
              <a:avLst/>
              <a:gdLst/>
              <a:ahLst/>
              <a:rect l="l" t="t" r="r" b="b"/>
              <a:pathLst>
                <a:path w="1056" h="768">
                  <a:moveTo>
                    <a:pt x="0" y="768"/>
                  </a:moveTo>
                  <a:lnTo>
                    <a:pt x="0" y="336"/>
                  </a:lnTo>
                  <a:lnTo>
                    <a:pt x="480" y="0"/>
                  </a:lnTo>
                  <a:lnTo>
                    <a:pt x="1056" y="336"/>
                  </a:lnTo>
                  <a:lnTo>
                    <a:pt x="1056" y="768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62320" y="1978920"/>
              <a:ext cx="422280" cy="289080"/>
            </a:xfrm>
            <a:custGeom>
              <a:avLst/>
              <a:gdLst/>
              <a:ahLst/>
              <a:rect l="l" t="t" r="r" b="b"/>
              <a:pathLst>
                <a:path w="266" h="162">
                  <a:moveTo>
                    <a:pt x="0" y="0"/>
                  </a:moveTo>
                  <a:cubicBezTo>
                    <a:pt x="6" y="40"/>
                    <a:pt x="3" y="51"/>
                    <a:pt x="30" y="78"/>
                  </a:cubicBezTo>
                  <a:cubicBezTo>
                    <a:pt x="46" y="76"/>
                    <a:pt x="64" y="65"/>
                    <a:pt x="78" y="72"/>
                  </a:cubicBezTo>
                  <a:cubicBezTo>
                    <a:pt x="98" y="82"/>
                    <a:pt x="84" y="137"/>
                    <a:pt x="102" y="150"/>
                  </a:cubicBezTo>
                  <a:cubicBezTo>
                    <a:pt x="112" y="157"/>
                    <a:pt x="138" y="162"/>
                    <a:pt x="138" y="162"/>
                  </a:cubicBezTo>
                  <a:cubicBezTo>
                    <a:pt x="181" y="133"/>
                    <a:pt x="157" y="104"/>
                    <a:pt x="198" y="90"/>
                  </a:cubicBezTo>
                  <a:cubicBezTo>
                    <a:pt x="227" y="100"/>
                    <a:pt x="237" y="93"/>
                    <a:pt x="258" y="72"/>
                  </a:cubicBezTo>
                  <a:cubicBezTo>
                    <a:pt x="266" y="49"/>
                    <a:pt x="258" y="36"/>
                    <a:pt x="258" y="12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28800" y="609480"/>
            <a:ext cx="5257800" cy="32004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762120"/>
            <a:ext cx="48006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200400"/>
            <a:ext cx="3886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2971800"/>
            <a:ext cx="609480" cy="2286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4038480"/>
            <a:ext cx="8305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iungendo un particolare dice: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esto è il sole che scioglie la neve sul tetto della casetta che contiene la scatola appoggiata a ter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estra, molto contenta, lo ringrazia e lo invita a tornare al p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772400" y="6172200"/>
            <a:ext cx="1371600" cy="533160"/>
            <a:chOff x="7772400" y="6172200"/>
            <a:chExt cx="1371600" cy="533160"/>
          </a:xfrm>
        </p:grpSpPr>
        <p:sp>
          <p:nvSpPr>
            <p:cNvPr id="86" name=""/>
            <p:cNvSpPr/>
            <p:nvPr/>
          </p:nvSpPr>
          <p:spPr>
            <a:xfrm>
              <a:off x="7848720" y="67053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72400" y="6172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ntin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190760" y="1219320"/>
            <a:ext cx="380520" cy="380880"/>
            <a:chOff x="4190760" y="1219320"/>
            <a:chExt cx="380520" cy="380880"/>
          </a:xfrm>
        </p:grpSpPr>
        <p:grpSp>
          <p:nvGrpSpPr>
            <p:cNvPr id="89" name=""/>
            <p:cNvGrpSpPr/>
            <p:nvPr/>
          </p:nvGrpSpPr>
          <p:grpSpPr>
            <a:xfrm>
              <a:off x="4190760" y="1219320"/>
              <a:ext cx="380520" cy="380880"/>
              <a:chOff x="4190760" y="1219320"/>
              <a:chExt cx="380520" cy="380880"/>
            </a:xfrm>
          </p:grpSpPr>
          <p:sp>
            <p:nvSpPr>
              <p:cNvPr id="90" name=""/>
              <p:cNvSpPr/>
              <p:nvPr/>
            </p:nvSpPr>
            <p:spPr>
              <a:xfrm>
                <a:off x="4381200" y="1219320"/>
                <a:ext cx="0" cy="38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4190760" y="1409760"/>
                <a:ext cx="380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238640" y="1267200"/>
              <a:ext cx="288000" cy="288000"/>
              <a:chOff x="4238640" y="1267200"/>
              <a:chExt cx="288000" cy="288000"/>
            </a:xfrm>
          </p:grpSpPr>
          <p:sp>
            <p:nvSpPr>
              <p:cNvPr id="93" name=""/>
              <p:cNvSpPr/>
              <p:nvPr/>
            </p:nvSpPr>
            <p:spPr>
              <a:xfrm>
                <a:off x="4257720" y="1267200"/>
                <a:ext cx="249840" cy="288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4238640" y="1286280"/>
                <a:ext cx="288000" cy="24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4268880" y="1297080"/>
            <a:ext cx="228600" cy="2286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581280" y="1828800"/>
            <a:ext cx="1676520" cy="1371240"/>
            <a:chOff x="3581280" y="1828800"/>
            <a:chExt cx="1676520" cy="1371240"/>
          </a:xfrm>
        </p:grpSpPr>
        <p:sp>
          <p:nvSpPr>
            <p:cNvPr id="97" name=""/>
            <p:cNvSpPr/>
            <p:nvPr/>
          </p:nvSpPr>
          <p:spPr>
            <a:xfrm>
              <a:off x="3581280" y="1828800"/>
              <a:ext cx="1676520" cy="1371240"/>
            </a:xfrm>
            <a:custGeom>
              <a:avLst/>
              <a:gdLst/>
              <a:ahLst/>
              <a:rect l="l" t="t" r="r" b="b"/>
              <a:pathLst>
                <a:path w="1056" h="768">
                  <a:moveTo>
                    <a:pt x="0" y="768"/>
                  </a:moveTo>
                  <a:lnTo>
                    <a:pt x="0" y="336"/>
                  </a:lnTo>
                  <a:lnTo>
                    <a:pt x="480" y="0"/>
                  </a:lnTo>
                  <a:lnTo>
                    <a:pt x="1056" y="336"/>
                  </a:lnTo>
                  <a:lnTo>
                    <a:pt x="1056" y="768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62320" y="1978920"/>
              <a:ext cx="422280" cy="289080"/>
            </a:xfrm>
            <a:custGeom>
              <a:avLst/>
              <a:gdLst/>
              <a:ahLst/>
              <a:rect l="l" t="t" r="r" b="b"/>
              <a:pathLst>
                <a:path w="266" h="162">
                  <a:moveTo>
                    <a:pt x="0" y="0"/>
                  </a:moveTo>
                  <a:cubicBezTo>
                    <a:pt x="6" y="40"/>
                    <a:pt x="3" y="51"/>
                    <a:pt x="30" y="78"/>
                  </a:cubicBezTo>
                  <a:cubicBezTo>
                    <a:pt x="46" y="76"/>
                    <a:pt x="64" y="65"/>
                    <a:pt x="78" y="72"/>
                  </a:cubicBezTo>
                  <a:cubicBezTo>
                    <a:pt x="98" y="82"/>
                    <a:pt x="84" y="137"/>
                    <a:pt x="102" y="150"/>
                  </a:cubicBezTo>
                  <a:cubicBezTo>
                    <a:pt x="112" y="157"/>
                    <a:pt x="138" y="162"/>
                    <a:pt x="138" y="162"/>
                  </a:cubicBezTo>
                  <a:cubicBezTo>
                    <a:pt x="181" y="133"/>
                    <a:pt x="157" y="104"/>
                    <a:pt x="198" y="90"/>
                  </a:cubicBezTo>
                  <a:cubicBezTo>
                    <a:pt x="227" y="100"/>
                    <a:pt x="237" y="93"/>
                    <a:pt x="258" y="72"/>
                  </a:cubicBezTo>
                  <a:cubicBezTo>
                    <a:pt x="266" y="49"/>
                    <a:pt x="258" y="36"/>
                    <a:pt x="258" y="12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295280"/>
            <a:ext cx="83059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esto punto si alz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IERI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, sbracciandosi come un forsennato, chiede alla maestra di poter andare alla lavag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estra, abituata agl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herzet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Pierino, non vuole accettare, ma, guardando il disegno innocente degli altri bambini ritiene che Pierino non possa rovin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’ope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nessun modo, e lo invita tranquillamente alla lavag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erino si alza e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772400" y="6172200"/>
            <a:ext cx="1371600" cy="533160"/>
            <a:chOff x="7772400" y="6172200"/>
            <a:chExt cx="1371600" cy="533160"/>
          </a:xfrm>
        </p:grpSpPr>
        <p:sp>
          <p:nvSpPr>
            <p:cNvPr id="101" name=""/>
            <p:cNvSpPr/>
            <p:nvPr/>
          </p:nvSpPr>
          <p:spPr>
            <a:xfrm>
              <a:off x="7848720" y="67053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2400" y="6172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ntin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28800" y="609480"/>
            <a:ext cx="5257800" cy="32004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762120"/>
            <a:ext cx="48006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200400"/>
            <a:ext cx="3886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2971800"/>
            <a:ext cx="609480" cy="2286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4038480"/>
            <a:ext cx="8305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ando il disegno dice: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esto è mio papà nel box doccia che raccoglie la saponetta !!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581280" y="1828800"/>
            <a:ext cx="1676520" cy="1371240"/>
            <a:chOff x="3581280" y="1828800"/>
            <a:chExt cx="1676520" cy="1371240"/>
          </a:xfrm>
        </p:grpSpPr>
        <p:sp>
          <p:nvSpPr>
            <p:cNvPr id="109" name=""/>
            <p:cNvSpPr/>
            <p:nvPr/>
          </p:nvSpPr>
          <p:spPr>
            <a:xfrm>
              <a:off x="3581280" y="1828800"/>
              <a:ext cx="1676520" cy="1371240"/>
            </a:xfrm>
            <a:custGeom>
              <a:avLst/>
              <a:gdLst/>
              <a:ahLst/>
              <a:rect l="l" t="t" r="r" b="b"/>
              <a:pathLst>
                <a:path w="1056" h="768">
                  <a:moveTo>
                    <a:pt x="0" y="768"/>
                  </a:moveTo>
                  <a:lnTo>
                    <a:pt x="0" y="336"/>
                  </a:lnTo>
                  <a:lnTo>
                    <a:pt x="480" y="0"/>
                  </a:lnTo>
                  <a:lnTo>
                    <a:pt x="1056" y="336"/>
                  </a:lnTo>
                  <a:lnTo>
                    <a:pt x="1056" y="768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62320" y="1978920"/>
              <a:ext cx="422280" cy="289080"/>
            </a:xfrm>
            <a:custGeom>
              <a:avLst/>
              <a:gdLst/>
              <a:ahLst/>
              <a:rect l="l" t="t" r="r" b="b"/>
              <a:pathLst>
                <a:path w="266" h="162">
                  <a:moveTo>
                    <a:pt x="0" y="0"/>
                  </a:moveTo>
                  <a:cubicBezTo>
                    <a:pt x="6" y="40"/>
                    <a:pt x="3" y="51"/>
                    <a:pt x="30" y="78"/>
                  </a:cubicBezTo>
                  <a:cubicBezTo>
                    <a:pt x="46" y="76"/>
                    <a:pt x="64" y="65"/>
                    <a:pt x="78" y="72"/>
                  </a:cubicBezTo>
                  <a:cubicBezTo>
                    <a:pt x="98" y="82"/>
                    <a:pt x="84" y="137"/>
                    <a:pt x="102" y="150"/>
                  </a:cubicBezTo>
                  <a:cubicBezTo>
                    <a:pt x="112" y="157"/>
                    <a:pt x="138" y="162"/>
                    <a:pt x="138" y="162"/>
                  </a:cubicBezTo>
                  <a:cubicBezTo>
                    <a:pt x="181" y="133"/>
                    <a:pt x="157" y="104"/>
                    <a:pt x="198" y="90"/>
                  </a:cubicBezTo>
                  <a:cubicBezTo>
                    <a:pt x="227" y="100"/>
                    <a:pt x="237" y="93"/>
                    <a:pt x="258" y="72"/>
                  </a:cubicBezTo>
                  <a:cubicBezTo>
                    <a:pt x="266" y="49"/>
                    <a:pt x="258" y="36"/>
                    <a:pt x="258" y="12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190760" y="1219320"/>
            <a:ext cx="380520" cy="380880"/>
            <a:chOff x="4190760" y="1219320"/>
            <a:chExt cx="380520" cy="380880"/>
          </a:xfrm>
        </p:grpSpPr>
        <p:grpSp>
          <p:nvGrpSpPr>
            <p:cNvPr id="112" name=""/>
            <p:cNvGrpSpPr/>
            <p:nvPr/>
          </p:nvGrpSpPr>
          <p:grpSpPr>
            <a:xfrm>
              <a:off x="4190760" y="1219320"/>
              <a:ext cx="380520" cy="380880"/>
              <a:chOff x="4190760" y="1219320"/>
              <a:chExt cx="380520" cy="38088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4190760" y="1219320"/>
                <a:ext cx="380520" cy="380880"/>
                <a:chOff x="4190760" y="1219320"/>
                <a:chExt cx="380520" cy="3808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381200" y="121932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4190760" y="1409760"/>
                  <a:ext cx="380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238640" y="1267200"/>
                <a:ext cx="288000" cy="288000"/>
                <a:chOff x="4238640" y="1267200"/>
                <a:chExt cx="288000" cy="2880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4257720" y="1267200"/>
                  <a:ext cx="249840" cy="2880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>
                  <a:off x="4238640" y="1286280"/>
                  <a:ext cx="288000" cy="2498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4268880" y="1296720"/>
              <a:ext cx="228600" cy="2282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946240" y="977760"/>
            <a:ext cx="2920320" cy="2234880"/>
            <a:chOff x="2946240" y="977760"/>
            <a:chExt cx="2920320" cy="2234880"/>
          </a:xfrm>
        </p:grpSpPr>
        <p:grpSp>
          <p:nvGrpSpPr>
            <p:cNvPr id="121" name=""/>
            <p:cNvGrpSpPr/>
            <p:nvPr/>
          </p:nvGrpSpPr>
          <p:grpSpPr>
            <a:xfrm>
              <a:off x="2946240" y="977760"/>
              <a:ext cx="1459800" cy="2222640"/>
              <a:chOff x="2946240" y="977760"/>
              <a:chExt cx="1459800" cy="2222640"/>
            </a:xfrm>
          </p:grpSpPr>
          <p:sp>
            <p:nvSpPr>
              <p:cNvPr id="122" name=""/>
              <p:cNvSpPr/>
              <p:nvPr/>
            </p:nvSpPr>
            <p:spPr>
              <a:xfrm>
                <a:off x="2946240" y="2959200"/>
                <a:ext cx="424440" cy="241200"/>
              </a:xfrm>
              <a:custGeom>
                <a:avLst/>
                <a:gdLst/>
                <a:ahLst/>
                <a:rect l="l" t="t" r="r" b="b"/>
                <a:pathLst>
                  <a:path w="256" h="152">
                    <a:moveTo>
                      <a:pt x="64" y="152"/>
                    </a:moveTo>
                    <a:cubicBezTo>
                      <a:pt x="32" y="116"/>
                      <a:pt x="0" y="80"/>
                      <a:pt x="16" y="56"/>
                    </a:cubicBezTo>
                    <a:cubicBezTo>
                      <a:pt x="32" y="32"/>
                      <a:pt x="120" y="16"/>
                      <a:pt x="160" y="8"/>
                    </a:cubicBezTo>
                    <a:cubicBezTo>
                      <a:pt x="200" y="0"/>
                      <a:pt x="228" y="4"/>
                      <a:pt x="256" y="8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91480" y="977760"/>
                <a:ext cx="1114560" cy="1994040"/>
              </a:xfrm>
              <a:custGeom>
                <a:avLst/>
                <a:gdLst/>
                <a:ahLst/>
                <a:rect l="l" t="t" r="r" b="b"/>
                <a:pathLst>
                  <a:path w="672" h="1256">
                    <a:moveTo>
                      <a:pt x="48" y="1256"/>
                    </a:moveTo>
                    <a:cubicBezTo>
                      <a:pt x="24" y="992"/>
                      <a:pt x="0" y="728"/>
                      <a:pt x="48" y="536"/>
                    </a:cubicBezTo>
                    <a:cubicBezTo>
                      <a:pt x="96" y="344"/>
                      <a:pt x="248" y="192"/>
                      <a:pt x="336" y="104"/>
                    </a:cubicBezTo>
                    <a:cubicBezTo>
                      <a:pt x="424" y="16"/>
                      <a:pt x="520" y="16"/>
                      <a:pt x="576" y="8"/>
                    </a:cubicBezTo>
                    <a:cubicBezTo>
                      <a:pt x="632" y="0"/>
                      <a:pt x="652" y="28"/>
                      <a:pt x="672" y="56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06760" y="990720"/>
              <a:ext cx="1459800" cy="2221920"/>
              <a:chOff x="4406760" y="990720"/>
              <a:chExt cx="1459800" cy="222192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5441760" y="2971800"/>
                <a:ext cx="424440" cy="240840"/>
              </a:xfrm>
              <a:custGeom>
                <a:avLst/>
                <a:gdLst/>
                <a:ahLst/>
                <a:rect l="l" t="t" r="r" b="b"/>
                <a:pathLst>
                  <a:path w="256" h="152">
                    <a:moveTo>
                      <a:pt x="64" y="152"/>
                    </a:moveTo>
                    <a:cubicBezTo>
                      <a:pt x="32" y="116"/>
                      <a:pt x="0" y="80"/>
                      <a:pt x="16" y="56"/>
                    </a:cubicBezTo>
                    <a:cubicBezTo>
                      <a:pt x="32" y="32"/>
                      <a:pt x="120" y="16"/>
                      <a:pt x="160" y="8"/>
                    </a:cubicBezTo>
                    <a:cubicBezTo>
                      <a:pt x="200" y="0"/>
                      <a:pt x="228" y="4"/>
                      <a:pt x="256" y="8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4406760" y="990720"/>
                <a:ext cx="1114560" cy="1993680"/>
              </a:xfrm>
              <a:custGeom>
                <a:avLst/>
                <a:gdLst/>
                <a:ahLst/>
                <a:rect l="l" t="t" r="r" b="b"/>
                <a:pathLst>
                  <a:path w="672" h="1256">
                    <a:moveTo>
                      <a:pt x="48" y="1256"/>
                    </a:moveTo>
                    <a:cubicBezTo>
                      <a:pt x="24" y="992"/>
                      <a:pt x="0" y="728"/>
                      <a:pt x="48" y="536"/>
                    </a:cubicBezTo>
                    <a:cubicBezTo>
                      <a:pt x="96" y="344"/>
                      <a:pt x="248" y="192"/>
                      <a:pt x="336" y="104"/>
                    </a:cubicBezTo>
                    <a:cubicBezTo>
                      <a:pt x="424" y="16"/>
                      <a:pt x="520" y="16"/>
                      <a:pt x="576" y="8"/>
                    </a:cubicBezTo>
                    <a:cubicBezTo>
                      <a:pt x="632" y="0"/>
                      <a:pt x="652" y="28"/>
                      <a:pt x="672" y="56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3T13:51:42Z</dcterms:created>
  <dc:creator>Nuove Tecnologie</dc:creator>
  <dc:description/>
  <dc:language>en-US</dc:language>
  <cp:lastModifiedBy>Alessandro CARENA</cp:lastModifiedBy>
  <dcterms:modified xsi:type="dcterms:W3CDTF">2000-11-06T10:22:06Z</dcterms:modified>
  <cp:revision>5</cp:revision>
  <dc:subject/>
  <dc:title>Nessun titolo diapositiva</dc:title>
</cp:coreProperties>
</file>