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DBBE-582D-4B9C-92DB-D2CAB989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5F07-5445-457F-AED9-90730FAF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3941-33E2-4A5A-954D-8313B410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CB7C-1EBF-4901-850F-A2CEC786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9E64-BD9A-4DAD-B95E-382B4019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065-9887-49F8-AA7E-4B5C1095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CEF8-BA06-48A8-BA21-9E8277DF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7D3A-B483-4DAE-88AC-55EC9DD4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7D8-DE32-4BFD-9187-9AE13BC4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F2A5-E375-4350-AD79-D1A57772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149F-EEA7-4650-B973-26C736DB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4A27-E80C-4F41-93C3-3B7EF028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AE9A-96A9-4DF6-9E1E-B24C1002E0E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000000"/>
                </a:solidFill>
                <a:latin typeface="Times New Roman"/>
              </a:rPr>
              <a:t>Come rendere l‘Olimpiadi più interessanti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90600" y="281160"/>
            <a:ext cx="4762800" cy="62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14680" y="411120"/>
            <a:ext cx="5715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33840" y="728640"/>
            <a:ext cx="36763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1080" y="860400"/>
            <a:ext cx="518184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97160" y="1187280"/>
            <a:ext cx="6349680" cy="44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87480" y="990720"/>
            <a:ext cx="35704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31840" y="1523880"/>
            <a:ext cx="5080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0600" y="128520"/>
            <a:ext cx="47628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43280" y="1758960"/>
            <a:ext cx="525780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0600" y="604800"/>
            <a:ext cx="476280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1:27:57Z</dcterms:created>
  <dc:creator>1st</dc:creator>
  <dc:description/>
  <dc:language>en-US</dc:language>
  <cp:lastModifiedBy>1st</cp:lastModifiedBy>
  <dcterms:modified xsi:type="dcterms:W3CDTF">2005-09-19T11:28:14Z</dcterms:modified>
  <cp:revision>1</cp:revision>
  <dc:subject/>
  <dc:title>Come rendere l‘Olimpiadi più interessanti.</dc:title>
</cp:coreProperties>
</file>