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431-7DCB-408D-B984-6EFCE0C7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835-9333-4B4D-AF0F-5A87B111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6C2-404E-4F5C-A451-0BB9D17C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72A-136C-4596-98A5-9C1537E0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D2A-ADB5-48B7-9469-67519331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327-C36A-4F45-BCB8-B080A72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87D3-BC59-45D2-B82A-B30C50B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606-1733-433A-9C35-CDFC2D1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985-C389-4120-B960-6C03510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8B38-3637-4514-A6C4-654F57B9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A9DA-6E89-4F1D-B40C-3690673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136-38CA-4DEA-9520-143CF8D4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56B-3757-4243-8751-8D12E0E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1DB4-A4C9-4051-A17F-1A6F6E8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C51-5032-4F02-8A40-73F32654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AD03-6DE5-46BC-9C46-5BCE317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0A5-9803-492F-AFF3-452CEC1A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A7C-B548-4189-8E1C-8E1EFB3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708-D760-4A25-806E-21BCDF43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F09-1EDE-43A4-B51B-F356D01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774-DA9D-45CC-9B20-9BF2C39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569-86E8-47DB-9283-03507ED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E0A-4458-4885-B813-1F27DFD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D21-107A-4052-8DE9-5E7C26B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B83-313F-427F-B9C1-C0DC4474B952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886-0A3D-4D2B-9A01-65F2707525C0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9625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ISOCTEUR"/>
              </a:rPr>
              <a:t>I vincitori di questa competizione sono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676520"/>
            <a:ext cx="8610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626-La sicurezza nel lavoro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71600" y="205740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Laurea ad Honorem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9520" y="482760"/>
            <a:ext cx="8724960" cy="58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1523880"/>
            <a:ext cx="6416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Menzione speciale della Giuria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28840" y="851040"/>
            <a:ext cx="6286320" cy="51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220968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Il non plus ultra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54280" y="996840"/>
            <a:ext cx="383544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9880" y="259092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4°classifica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6840" y="27612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2160" y="266688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. classifica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822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9880" y="274320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° classifica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Infine il vincitore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29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 </dc:creator>
  <dc:description> </dc:description>
  <dc:language>en-US</dc:language>
  <cp:lastModifiedBy>NPensa</cp:lastModifiedBy>
  <dcterms:modified xsi:type="dcterms:W3CDTF">2004-11-09T09:18:45Z</dcterms:modified>
  <cp:revision>14</cp:revision>
  <dc:subject> </dc:subject>
  <dc:title> </dc:title>
</cp:coreProperties>
</file>