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E4114-13B5-474F-BA29-958B98F43C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8686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4920" y="6354000"/>
            <a:ext cx="8686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0E385-BE89-4E0D-BD4B-7B34A5A06C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4920" y="6354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6320" y="6354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05ACC-DCDA-433A-91B4-49E884923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42160" y="5886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179040" y="5886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4920" y="6354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42160" y="6354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179040" y="6354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3254-EF80-4020-8525-9A1BAE22C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9A7475-F28B-4EE3-8FA9-39B44D2E77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4920" y="588600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4E8E-18A9-45AA-B088-567BA4614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8F1759-1073-42E7-A20C-D9D2F18DF6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4E32E5-C210-439F-BC25-D4739C8D7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7F272-7F32-43A3-AECF-00CFA4EF2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4920" y="5028840"/>
            <a:ext cx="868680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95F1-34FD-4541-BA3A-22E4FF4F9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4920" y="6354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68B88-2711-4170-BBB8-FA73B3FAD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4920" y="588600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A26E-CA58-4579-B437-B84E6D85F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756320" y="6354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72FCC5-C32B-4ED1-A35D-081CD7BB8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4920" y="6354000"/>
            <a:ext cx="8686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9C2CE4-30B2-4153-8ECC-3B2A5753CA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8686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4920" y="6354000"/>
            <a:ext cx="8686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DE707-4335-4617-A0EE-A116425C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4920" y="6354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56320" y="6354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336D4B-6986-4EFC-85CE-1549645C0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42160" y="5886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79040" y="5886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4920" y="6354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42160" y="6354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79040" y="6354000"/>
            <a:ext cx="279684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6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3F40D6-CC90-40D7-AF39-1E0EF3A96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2DF4-E120-4626-8ECF-A08959771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C0EF0-197A-4733-8B3A-6746515F78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81324-FA88-4D6C-AB58-4915C25D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4920" y="5028840"/>
            <a:ext cx="8686800" cy="439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A26DF-F443-4857-BD8B-A9FEB68AA6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4920" y="6354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05E6-9752-4C53-A865-8DADE4FA4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895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6320" y="6354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6571-1359-4F04-82BE-EB708A97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49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6320" y="5886000"/>
            <a:ext cx="42390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4920" y="6354000"/>
            <a:ext cx="8686800" cy="42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7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7F8EF-C464-449D-8903-2793EEB1C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52516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85345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80808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51393-E1E9-477B-A6D9-04637710431A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80808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D6272-1F52-44D1-AC2B-84967D7BF1E0}" type="slidenum">
              <a:rPr b="0" lang="en-US" sz="1400" spc="-1" strike="noStrike">
                <a:solidFill>
                  <a:srgbClr val="080808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80808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80808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0808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80808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0066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80808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80808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5028840"/>
            <a:ext cx="8686800" cy="94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4400" spc="-1" strike="noStrike">
                <a:solidFill>
                  <a:srgbClr val="ffffff"/>
                </a:solidFill>
                <a:latin typeface="Tahoma"/>
              </a:rPr>
              <a:t>La </a:t>
            </a: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password</a:t>
            </a:r>
            <a:r>
              <a:rPr b="1" lang="fr-CA" sz="4400" spc="-1" strike="noStrike">
                <a:solidFill>
                  <a:srgbClr val="ffffff"/>
                </a:solidFill>
                <a:latin typeface="Tahoma"/>
              </a:rPr>
              <a:t>....</a:t>
            </a:r>
            <a:r>
              <a:rPr b="0" lang="fr-C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304920" y="5886000"/>
            <a:ext cx="8686800" cy="89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La vita di un uomo non è sempre facile</a:t>
            </a:r>
            <a:r>
              <a:rPr b="1" lang="fr-CA" sz="3200" spc="-1" strike="noStrike">
                <a:solidFill>
                  <a:srgbClr val="ffffff"/>
                </a:solidFill>
                <a:latin typeface="Tahoma"/>
              </a:rPr>
              <a:t>...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ubTitle"/>
          </p:nvPr>
        </p:nvSpPr>
        <p:spPr>
          <a:xfrm>
            <a:off x="0" y="691920"/>
            <a:ext cx="4495680" cy="580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100" spc="-1" strike="noStrike">
                <a:solidFill>
                  <a:srgbClr val="ffffff"/>
                </a:solidFill>
                <a:latin typeface="Tahoma"/>
              </a:rPr>
              <a:t>Una donna stava aiutando suo marito ad istallare il suo nuovo computer, e a un certo momento, durante l’aggiornamento dei programmi, un messaggio è apparso, domandando di creare una password.</a:t>
            </a:r>
            <a:r>
              <a:rPr b="0" lang="fr-CA" sz="31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0" y="333360"/>
            <a:ext cx="4572000" cy="612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ffffff"/>
                </a:solidFill>
                <a:latin typeface="Tahoma"/>
              </a:rPr>
              <a:t>L‘uomo essendo in un momento di tenerezza e  sentendosi innamorato, sceglie per stupire sua moglie, e digita la seguente password:</a:t>
            </a:r>
            <a:r>
              <a:rPr b="1" lang="fr-CA" sz="3000" spc="-1" strike="noStrike">
                <a:solidFill>
                  <a:srgbClr val="ffffff"/>
                </a:solidFill>
                <a:latin typeface="Tahoma"/>
              </a:rPr>
              <a:t>  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6000" spc="-1" strike="noStrike">
                <a:solidFill>
                  <a:srgbClr val="ffffff"/>
                </a:solidFill>
                <a:latin typeface="Tahoma"/>
              </a:rPr>
              <a:t>PENE</a:t>
            </a:r>
            <a:r>
              <a:rPr b="0" lang="fr-CA" sz="60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6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304560" y="836640"/>
            <a:ext cx="4051080" cy="568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Tahoma"/>
              </a:rPr>
              <a:t>Sua moglie era quasi caduta dalla sua sedia, e rideva fino a rotolarsi per terra, vedendo la risposta del computer !</a:t>
            </a:r>
            <a:r>
              <a:rPr b="0" lang="fr-CA" sz="3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79280" y="260280"/>
            <a:ext cx="410544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ffffff"/>
                </a:solidFill>
                <a:latin typeface="Tahoma"/>
              </a:rPr>
              <a:t>Password </a:t>
            </a:r>
            <a:r>
              <a:rPr b="1" lang="it-IT" sz="4400" spc="-1" strike="noStrike">
                <a:solidFill>
                  <a:srgbClr val="ffffff"/>
                </a:solidFill>
                <a:latin typeface="Tahoma"/>
              </a:rPr>
              <a:t>rifiutata</a:t>
            </a:r>
            <a:r>
              <a:rPr b="1" lang="fr-CA" sz="4400" spc="-1" strike="noStrike">
                <a:solidFill>
                  <a:srgbClr val="ffffff"/>
                </a:solidFill>
                <a:latin typeface="Tahoma"/>
              </a:rPr>
              <a:t>,</a:t>
            </a:r>
            <a:r>
              <a:rPr b="0" lang="en-CA" sz="4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0" y="515772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5400" spc="-1" strike="noStrike">
                <a:solidFill>
                  <a:srgbClr val="ffffff"/>
                </a:solidFill>
                <a:latin typeface="Tahoma"/>
              </a:rPr>
              <a:t>non abbastanza lungo.…..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5-11T15:04:44Z</dcterms:created>
  <dc:creator>RRSSSN</dc:creator>
  <dc:description/>
  <dc:language>en-US</dc:language>
  <cp:lastModifiedBy> </cp:lastModifiedBy>
  <dcterms:modified xsi:type="dcterms:W3CDTF">2006-11-10T14:39:36Z</dcterms:modified>
  <cp:revision>2</cp:revision>
  <dc:subject/>
  <dc:title>Le mot de passe....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22760462</vt:r8>
  </property>
  <property fmtid="{D5CDD505-2E9C-101B-9397-08002B2CF9AE}" pid="3" name="_AuthorEmail">
    <vt:lpwstr>roberto.tabarelli@rgtaa.carabinieri.it</vt:lpwstr>
  </property>
  <property fmtid="{D5CDD505-2E9C-101B-9397-08002B2CF9AE}" pid="4" name="_AuthorEmailDisplayName">
    <vt:lpwstr>Roberto Tabarelli</vt:lpwstr>
  </property>
  <property fmtid="{D5CDD505-2E9C-101B-9397-08002B2CF9AE}" pid="5" name="_EmailSubject">
    <vt:lpwstr/>
  </property>
  <property fmtid="{D5CDD505-2E9C-101B-9397-08002B2CF9AE}" pid="6" name="_TemplateID">
    <vt:lpwstr>TC011775941033</vt:lpwstr>
  </property>
</Properties>
</file>