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160-26A1-4958-A005-A554B8FD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555-3DED-4E90-85B0-CEE3FAB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803-2F6D-4260-A662-D7CA828F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9DF-94E0-4319-AE5C-A0D71B78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833-DDFE-48C1-BE29-A09D4FC3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BB0-0CDB-47AC-9214-EE703EC9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E82-6DAE-4E34-8FF7-59D57094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F97-CCAF-4938-9DB4-DEC015CA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42C-BCE6-49CA-A05B-A06E054A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CD5-F94A-4E2D-8349-A1A51E7E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BB2-E949-4ABA-82A7-1692C50F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7BB-4C38-4202-AA8E-32BAE64F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9B57-20B2-4E99-A7DE-024B3EFEB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838080"/>
            <a:ext cx="784872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 PIACE CHE TI SFIORIN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 TI ACCAREZZINO? CHE TI PALPINO?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CHE TI FACCIANO SUDARE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 PIACE IL RESPIRO DI UN ALTRO ACCANTO A TE?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CHE TI RESPIRINO SULLA NUCA E/O SUL VISO?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 PIACE ADOTTARE NUOVE POSIZIONI?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ARRIVARE FINO IN FONDO?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O SOLO ALL'INGRESSO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 PIACE ENTRARE, USCIRE?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SALIRE, SCENDE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INCIARE DA FREDDI E FINIRE TUTTI CALDI E SUDATI?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228600"/>
            <a:ext cx="43434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0000"/>
                </a:solidFill>
                <a:latin typeface="Comic Sans MS"/>
              </a:rPr>
              <a:t>Prendi  l’autobus!</a:t>
            </a:r>
            <a:r>
              <a:rPr b="0" i="1" lang="it-IT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6165720"/>
            <a:ext cx="84960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l trasporto pubblico rende reali tutte le tue fantasie!!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9:14:26Z</dcterms:created>
  <dc:creator/>
  <dc:description/>
  <dc:language>en-US</dc:language>
  <cp:lastModifiedBy>jake.afc</cp:lastModifiedBy>
  <dcterms:modified xsi:type="dcterms:W3CDTF">2005-12-16T17:17:28Z</dcterms:modified>
  <cp:revision>3</cp:revision>
  <dc:subject/>
  <dc:title>fantasie erotiche</dc:title>
</cp:coreProperties>
</file>