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469-C78C-49DD-8321-6FB38EAF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BF8-3843-43B9-9692-4564B90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F9A-3A6F-4E65-A1A7-5AB48AA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9B4-3AC1-4F41-B9F4-B2FFFA39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BB7-AEDD-4667-8D51-90AD0C5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3E8-7178-42F0-828E-6D4EEBA9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A9A-DED5-428A-9277-43FC44A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272-3CB6-4676-A561-8922203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79A-D1E2-4C90-8EA6-1029FFA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3F2-EA2F-46B4-81AE-CE8BEED2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48F-DBFA-459C-B1CD-13D0E70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A32-7BA0-4C0C-BD82-EDFDEBC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C44-A0F0-4D90-AA17-AAAF51317D8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89000"/>
            <a:ext cx="496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MONNE’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CCE RIDE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a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3880"/>
            <a:ext cx="8282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L'Italia e' il Paese dei furb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Ieri ero a Rom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Sono salito su un auto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e ho timbrato il biglietto: tlictlac.</a:t>
            </a:r>
            <a:br>
              <a:rPr sz="4400"/>
            </a:b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Il guidatore si e' gi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di scatto e ha det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"Cosa e' questo rumore?"</a:t>
            </a:r>
            <a:br>
              <a:rPr sz="4400"/>
            </a:br>
            <a:r>
              <a:rPr b="0" lang="en-US" sz="4400" spc="-1" strike="noStrike">
                <a:solidFill>
                  <a:srgbClr val="a800a8"/>
                </a:solidFill>
                <a:latin typeface="Comic Sans MS"/>
              </a:rPr>
              <a:t>(Beppe Grillo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8840" y="1266120"/>
            <a:ext cx="773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Dio creò l'uom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gli diede un cerv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ed un p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ma non sangue suffic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a farli funzion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a75"/>
                </a:solidFill>
                <a:latin typeface="Comic Sans MS"/>
              </a:rPr>
              <a:t>contemporaneamen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515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Adamo va dal Signore.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Adamo: "Posso farti una domanda?"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Dio: "Dimmi pure figliolo."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Adamo: "Perché hai fa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Eva così bella?"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Dio: "Perché tu la potessi amare."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Adamo: "E allora perché l' hai fa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così stupida?"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Comic Sans MS"/>
              </a:rPr>
              <a:t>Dio: "Perché lei amasse te.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339200"/>
            <a:ext cx="867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Quando di no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soffro d'inson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prendo dei lassativi.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Non dormo lo stess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ma almeno ho qualcosa da far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73760"/>
            <a:ext cx="8642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Il bambino alla mam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"Mamma perché la ma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hiama Roberto Robertin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Paolo Paolino, Luca Luch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e a me no?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La mamma tentennant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"Lo capirai da grande ... Pompeo!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01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4800" y="978480"/>
            <a:ext cx="7857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Due pipistrelli appe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nella grotta.</a:t>
            </a:r>
            <a:br>
              <a:rPr sz="4400"/>
            </a:b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Uno chiede all'alt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"Qual è stato il gi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peggiore della tua vita?"</a:t>
            </a:r>
            <a:br>
              <a:rPr sz="4400"/>
            </a:b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L'altro: "Quel giorno che 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ea2e8"/>
                </a:solidFill>
                <a:latin typeface="Comic Sans MS"/>
              </a:rPr>
              <a:t>è venuta la diarrea .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570240"/>
            <a:ext cx="7020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Una suora per strada:</a:t>
            </a:r>
            <a:br>
              <a:rPr sz="4400"/>
            </a:b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"Oh no ... ho pe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una merda.</a:t>
            </a:r>
            <a:br>
              <a:rPr sz="4400"/>
            </a:b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Cazzo ho detto merda.</a:t>
            </a:r>
            <a:br>
              <a:rPr sz="4400"/>
            </a:b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Minchia ho detto cazzo.</a:t>
            </a:r>
            <a:br>
              <a:rPr sz="4400"/>
            </a:b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Fanculo, tanto non vol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b5b5ff"/>
                </a:solidFill>
                <a:latin typeface="Comic Sans MS"/>
              </a:rPr>
              <a:t>neanche fare la suora!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292040"/>
            <a:ext cx="809784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Giappone è n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n bi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uttino bruttin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n decis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 chiamarl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shito Nakagat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58280" y="1339200"/>
            <a:ext cx="6433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Qual è il nome pi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bello per una ragazza?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Ikea: è svedes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costa poco, te la po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subito a casa e te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a monti in 5 minuti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120" y="1050480"/>
            <a:ext cx="799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Manda queste barzell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alle persone che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ritieni più simpat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e vedrai che dopo 3 giorni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Comic Sans MS"/>
              </a:rPr>
              <a:t>Non succede un cazz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663300"/>
                </a:solidFill>
                <a:uFillTx/>
                <a:latin typeface="Comic Sans MS"/>
              </a:rPr>
              <a:t>come sempre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76280"/>
            <a:ext cx="867564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Cara, dovremmo risparmiare. Se tu imparassi a cucinare potremmo licenziare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il cuo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Si caro, e se tu imparassi a scopare, anche l'autista e il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giardiniere!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978480"/>
            <a:ext cx="84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Sai qual'e' la differenza tra un preservativo e una bara?</a:t>
            </a:r>
            <a:br>
              <a:rPr sz="4400"/>
            </a:b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Nessuna.</a:t>
            </a:r>
            <a:br>
              <a:rPr sz="4400"/>
            </a:b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Tutte e due ospitano un corpo rigido, solo che uno sta venendo e l'altro</a:t>
            </a:r>
            <a:br>
              <a:rPr sz="4400"/>
            </a:b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se ne sta andando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402120"/>
            <a:ext cx="8537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Una vecchietta passeg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con  una gallina sotto il braccio.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Un tipo la vede e le f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oh bella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Me la darebbe per 10 euro?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La vecchietta: Un attimo che poso la gallina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473760"/>
            <a:ext cx="849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L' appuntato al maresciallo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"per fare un po' di spazio in archivio</a:t>
            </a:r>
            <a:br>
              <a:rPr sz="4400"/>
            </a:b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possiamo bruciare i fascico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più vecchi di 10 anni?</a:t>
            </a:r>
            <a:br>
              <a:rPr sz="4400"/>
            </a:b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Il Maresciallo: "Ottima idea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ad"/>
                </a:solidFill>
                <a:latin typeface="Comic Sans MS"/>
              </a:rPr>
              <a:t>ma per sicurezza fai prima le fotocopie....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473760"/>
            <a:ext cx="727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ra gay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"Pronto sono Dario, c'é Marco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No Marco e' a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etto con gli orecchioni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e stronzo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teva anche dirm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e c'era una festa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78840"/>
            <a:ext cx="85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Differenza tra un pipistr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e un pisello: nessun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Si rannicchiano col fredd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riposano di giorn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dormono appesi a testa in giù</a:t>
            </a:r>
            <a:br>
              <a:rPr sz="4400"/>
            </a:br>
            <a:r>
              <a:rPr b="1" lang="en-US" sz="4400" spc="-1" strike="noStrike">
                <a:solidFill>
                  <a:srgbClr val="ffcccc"/>
                </a:solidFill>
                <a:latin typeface="Comic Sans MS"/>
              </a:rPr>
              <a:t>e amano le caverne umide..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262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Un giorno non ce l'ho fatta pi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ho preso la mia ragazza e le ho detto:</a:t>
            </a:r>
            <a:br>
              <a:rPr sz="4400"/>
            </a:b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"Cara, io sto con te perché mi accontento.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E lei mi ha rispos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"Io invece non mi accont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</a:rPr>
              <a:t>sto anche con un altro.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52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io creò la Padani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oi si accorse dell'err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e creò la nebbia.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(Scritta su di un muro di Napoli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8:49:34Z</dcterms:created>
  <dc:creator>sd</dc:creator>
  <dc:description/>
  <dc:language>en-US</dc:language>
  <cp:lastModifiedBy>maurizis</cp:lastModifiedBy>
  <dcterms:modified xsi:type="dcterms:W3CDTF">2005-12-16T13:31:00Z</dcterms:modified>
  <cp:revision>23</cp:revision>
  <dc:subject/>
  <dc:title>Ridere a denti stretti … ma non troppo!</dc:title>
</cp:coreProperties>
</file>