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FB2-C0A7-4D47-B8C5-807C09C3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FC3-6411-479C-B9CF-E9256D17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C9F-E8A7-4D6F-A138-D1FEC0AA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867-B86C-4758-960C-8A6881AA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609-DE7B-4DCE-BBDC-F2A02F70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7E9-39F5-4545-8F0A-02D85DF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5BC-E17A-476D-8CDE-65DB446A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E1F-6CB5-446F-AF52-45DA9C25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C20-2BD9-487B-924C-F0BB12AC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46E-DD6C-480F-921C-88A7FEBA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888-F04A-47DE-9551-78DFC4C0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CC1-CF4F-4E87-8002-E3B5349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5000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90F9-45D3-466E-9A5B-F9FF5133B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5000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680" y="13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2600" y="1362240"/>
            <a:ext cx="9169200" cy="4133520"/>
            <a:chOff x="-12600" y="1362240"/>
            <a:chExt cx="9169200" cy="4133520"/>
          </a:xfrm>
        </p:grpSpPr>
        <p:grpSp>
          <p:nvGrpSpPr>
            <p:cNvPr id="43" name=""/>
            <p:cNvGrpSpPr/>
            <p:nvPr/>
          </p:nvGrpSpPr>
          <p:grpSpPr>
            <a:xfrm>
              <a:off x="-4680" y="1369800"/>
              <a:ext cx="9153000" cy="4117680"/>
              <a:chOff x="-4680" y="1369800"/>
              <a:chExt cx="9153000" cy="411768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-4680" y="1369800"/>
                <a:ext cx="9153000" cy="4117680"/>
                <a:chOff x="-4680" y="1369800"/>
                <a:chExt cx="9153000" cy="4117680"/>
              </a:xfrm>
            </p:grpSpPr>
            <p:grpSp>
              <p:nvGrpSpPr>
                <p:cNvPr id="45" name=""/>
                <p:cNvGrpSpPr/>
                <p:nvPr/>
              </p:nvGrpSpPr>
              <p:grpSpPr>
                <a:xfrm>
                  <a:off x="0" y="1374120"/>
                  <a:ext cx="9143640" cy="4107960"/>
                  <a:chOff x="0" y="1374120"/>
                  <a:chExt cx="9143640" cy="410796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0" y="1374120"/>
                    <a:ext cx="9143640" cy="410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NNUNCIO SULL' "IRISH INDIPENDENT" DI DUBLINO:</a:t>
                    </a:r>
                    <a:r>
                      <a:rPr b="0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ausa cambio lavoro unico proprietario vende Volkswagen Golf del 1985.</a:t>
                    </a:r>
                    <a:br>
                      <a:rPr sz="2400"/>
                    </a:br>
                    <a:r>
                      <a:rPr b="1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olo 15 Km percorsi.</a:t>
                    </a:r>
                    <a:br>
                      <a:rPr sz="2400"/>
                    </a:br>
                    <a:r>
                      <a:rPr b="1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olo utilizzata la prima marcia e la marcia indietro. Il resto delle marce intatte.</a:t>
                    </a:r>
                    <a:br>
                      <a:rPr sz="2400"/>
                    </a:br>
                    <a:r>
                      <a:rPr b="1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i portata ad alta velocita.</a:t>
                    </a:r>
                    <a:br>
                      <a:rPr sz="2400"/>
                    </a:br>
                    <a:r>
                      <a:rPr b="1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neumatici e freni originali.</a:t>
                    </a:r>
                    <a:br>
                      <a:rPr sz="2400"/>
                    </a:br>
                    <a:r>
                      <a:rPr b="1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bustibile e olio originali.</a:t>
                    </a:r>
                    <a:br>
                      <a:rPr sz="2400"/>
                    </a:br>
                    <a:r>
                      <a:rPr b="1" lang="it-IT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i acclude fotografia (Vedere allegato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0" y="1374120"/>
                    <a:ext cx="9143640" cy="4107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" name=""/>
                <p:cNvSpPr/>
                <p:nvPr/>
              </p:nvSpPr>
              <p:spPr>
                <a:xfrm>
                  <a:off x="-4680" y="1369800"/>
                  <a:ext cx="9153000" cy="4117680"/>
                </a:xfrm>
                <a:prstGeom prst="rect">
                  <a:avLst/>
                </a:prstGeom>
                <a:noFill/>
                <a:ln w="936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-4680" y="1369800"/>
                <a:ext cx="9153000" cy="4117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-12600" y="1362240"/>
              <a:ext cx="9169200" cy="413352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250920" y="6237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b2b2b2"/>
                </a:solidFill>
                <a:latin typeface="HMan"/>
              </a:rPr>
              <a:t>www.giveup.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5"/>
            </a:gs>
            <a:gs pos="50000">
              <a:srgbClr val="33ccff"/>
            </a:gs>
            <a:gs pos="100000">
              <a:srgbClr val="17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1:27:53Z</dcterms:created>
  <dc:creator>CRMBUSINESS</dc:creator>
  <dc:description/>
  <dc:language>en-US</dc:language>
  <cp:lastModifiedBy>zanattf</cp:lastModifiedBy>
  <dcterms:modified xsi:type="dcterms:W3CDTF">2004-02-17T10:27:01Z</dcterms:modified>
  <cp:revision>4</cp:revision>
  <dc:subject/>
  <dc:title>Presentazione di PowerPoint</dc:title>
</cp:coreProperties>
</file>